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B3F-69D7-4D8D-92E7-C1899B29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C6A-4D71-4E30-89DE-826AA8B8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392-D4FB-4434-ADCB-1CE191EF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C70-1EB4-46ED-A0E0-D7E7B471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DB6-A694-409A-B367-B2DEEAD4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125-1940-463B-9CCD-3253C598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8E9-6464-4E2B-8140-8BF02093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E9F-20EF-4819-B7E2-50568443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DBA-ACCE-4941-A2EF-13651BEC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535-DC2B-4B4A-97C1-98E4506B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EC1-60F2-4AF0-9D23-51F0CBC4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FCB-F3E7-4A75-A743-9AB103C8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5EF7-0C2E-4452-AEE1-2B618F4BB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iciapatterson.org/APF1804/Weinberg/Weinberg01.jpg&amp;imgrefurl=http://www.aliciapatterson.org/APF1804/Weinberg/Weinberg.html&amp;h=1239&amp;w=861&amp;sz=134&amp;tbnid=uHgn9Jec4XTqZM:&amp;tbnh=150&amp;tbnw=104&amp;hl=en&amp;start=1&amp;prev=/images?q=ida+tarbell&amp;svnum=10&amp;hl=en&amp;lr=&amp;sa=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online-literature.com/authorpics/upton_sinclair.jpg&amp;imgrefurl=http://www.online-literature.com/upton_sinclair/&amp;h=215&amp;w=140&amp;sz=12&amp;tbnid=TkbS8-V_vpbEXM:&amp;tbnh=101&amp;tbnw=65&amp;hl=en&amp;start=1&amp;prev=/images?q=upton+sinclair&amp;svnum=10&amp;hl=en&amp;lr=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rxists.org/glossary/people/k/pics/kelley-florence.jpg&amp;imgrefurl=http://www.marxists.org/glossary/people/album/index24.htm&amp;h=246&amp;w=165&amp;sz=13&amp;tbnid=FQ_TBzMloKlWhM:&amp;tbnh=105&amp;tbnw=70&amp;hl=en&amp;start=5&amp;prev=/images?q=florence+kelley&amp;svnum=10&amp;hl=en&amp;lr=&amp;sa=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ises.org/images3/unionbutton.gif&amp;imgrefurl=http://www.mises.org/fullstory.asp?control=1343&amp;h=238&amp;w=237&amp;sz=32&amp;tbnid=623-REcYX_oOyM:&amp;tbnh=104&amp;tbnw=103&amp;hl=en&amp;start=16&amp;prev=/images?q=labor+unions&amp;svnum=10&amp;hl=en&amp;lr=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anarchosyndicalism.net/images/iww/allworkers.gif&amp;imgrefurl=http://www.anarchosyndicalism.net/images/iww/&amp;h=521&amp;w=502&amp;sz=105&amp;tbnid=O44SDeKTDU3FXM:&amp;tbnh=129&amp;tbnw=124&amp;hl=en&amp;start=1&amp;prev=/images?q=IWW&amp;svnum=10&amp;hl=en&amp;lr=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freepages.genealogy.rootsweb.com/~nepaphotos/images/ilgwu.jpg&amp;imgrefurl=http://freepages.genealogy.rootsweb.com/~nepaphotos/events.htm&amp;h=556&amp;w=650&amp;sz=80&amp;tbnid=jF0uiY88DX0jlM:&amp;tbnh=115&amp;tbnw=135&amp;hl=en&amp;start=2&amp;prev=/images?q=ILGWU&amp;svnum=10&amp;hl=en&amp;lr=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ihs.org/images/page-spec/abe-prohibition-poster.jpg&amp;imgrefurl=http://nu50.blogspot.com/2005_09_01_nu50_archive.html&amp;h=186&amp;w=145&amp;sz=23&amp;tbnid=6qBovv6z522YwM:&amp;tbnh=97&amp;tbnw=75&amp;hl=en&amp;start=4&amp;prev=/images?q=prohibition&amp;svnum=10&amp;hl=en&amp;lr=&amp;sa=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multimedialearning.org/presentations/present15/slide5.jpg&amp;imgrefurl=http://multimedialearning.org/presentations/progressive.php3&amp;h=274&amp;w=365&amp;sz=48&amp;tbnid=R5yM7oWi_FGxgM:&amp;tbnh=88&amp;tbnw=118&amp;hl=en&amp;start=8&amp;prev=/images?q=progressive+era&amp;svnum=10&amp;hl=en&amp;lr=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457200"/>
            <a:ext cx="8267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Chapter 18 - The Age of Refor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12"/>
          <p:cNvSpPr txBox="1"/>
          <p:nvPr/>
        </p:nvSpPr>
        <p:spPr>
          <a:xfrm>
            <a:off x="304920" y="2286000"/>
            <a:ext cx="6762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Progressive Movem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1678680" y="1295280"/>
            <a:ext cx="34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ism = Rur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ivism = Urba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2121480" y="308448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&amp; upper class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jump on board!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5"/>
          <p:cNvSpPr txBox="1"/>
          <p:nvPr/>
        </p:nvSpPr>
        <p:spPr>
          <a:xfrm>
            <a:off x="838080" y="3962520"/>
            <a:ext cx="4676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ogressive issu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2199240" y="4608360"/>
            <a:ext cx="549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 the workpla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monopolies &amp; trusts! (reduce corporate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issues: elections, education,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12"/>
          <p:cNvSpPr txBox="1"/>
          <p:nvPr/>
        </p:nvSpPr>
        <p:spPr>
          <a:xfrm>
            <a:off x="609480" y="457200"/>
            <a:ext cx="268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spir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1147680" y="1219320"/>
            <a:ext cx="61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ive journalists join in the fight!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krakers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nsey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, Everybody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cClure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 Maga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d of corruption in politics and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awareness of soci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4"/>
          <p:cNvSpPr txBox="1"/>
          <p:nvPr/>
        </p:nvSpPr>
        <p:spPr>
          <a:xfrm>
            <a:off x="1295280" y="2666880"/>
            <a:ext cx="1971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da Tarbel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1835280" y="3429000"/>
            <a:ext cx="44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Standard Oil Compan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Hero!! Allegheny College, Titus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or of the Trus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Weinberg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2057400"/>
            <a:ext cx="153216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upton_sinclai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4343400"/>
            <a:ext cx="132408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20"/>
          <p:cNvSpPr txBox="1"/>
          <p:nvPr/>
        </p:nvSpPr>
        <p:spPr>
          <a:xfrm>
            <a:off x="1295280" y="464832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pton Sinclai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2118240" y="5141880"/>
            <a:ext cx="15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u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1"/>
          <p:cNvSpPr txBox="1"/>
          <p:nvPr/>
        </p:nvSpPr>
        <p:spPr>
          <a:xfrm>
            <a:off x="457200" y="533520"/>
            <a:ext cx="628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forming the Workpla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1530720" y="1219320"/>
            <a:ext cx="72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&amp; child labo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pay, safer conditions, shorter days, no children, minimum w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angle Shirtwaist F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990720" y="2514600"/>
            <a:ext cx="284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lorence Kelle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14"/>
          <p:cNvSpPr txBox="1"/>
          <p:nvPr/>
        </p:nvSpPr>
        <p:spPr>
          <a:xfrm>
            <a:off x="304920" y="4114800"/>
            <a:ext cx="826776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ogressivism &amp; the S.C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36840" y="4800600"/>
            <a:ext cx="449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ions fight ba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s property, r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 of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ler v. Ore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uis Brandeis (Brandeis Br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kelley-flore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057400"/>
            <a:ext cx="111780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10"/>
          <p:cNvSpPr txBox="1"/>
          <p:nvPr/>
        </p:nvSpPr>
        <p:spPr>
          <a:xfrm>
            <a:off x="685800" y="457200"/>
            <a:ext cx="329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bor Un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753200" y="13716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 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2"/>
          <p:cNvSpPr txBox="1"/>
          <p:nvPr/>
        </p:nvSpPr>
        <p:spPr>
          <a:xfrm>
            <a:off x="1752480" y="3124080"/>
            <a:ext cx="3133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amuel Gomper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WordArt 13"/>
          <p:cNvSpPr txBox="1"/>
          <p:nvPr/>
        </p:nvSpPr>
        <p:spPr>
          <a:xfrm>
            <a:off x="1295280" y="2209680"/>
            <a:ext cx="962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F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2655360" y="2322360"/>
            <a:ext cx="33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merican Federation of Lab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5"/>
          <p:cNvSpPr txBox="1"/>
          <p:nvPr/>
        </p:nvSpPr>
        <p:spPr>
          <a:xfrm>
            <a:off x="1295280" y="3886200"/>
            <a:ext cx="170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LGWU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3418560" y="40752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ernational Ladie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arment Workers Un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7"/>
          <p:cNvSpPr txBox="1"/>
          <p:nvPr/>
        </p:nvSpPr>
        <p:spPr>
          <a:xfrm>
            <a:off x="1295280" y="4952880"/>
            <a:ext cx="1095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WW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2729880" y="506556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dustrial Workers of the Wor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2802600" y="5599080"/>
            <a:ext cx="32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Bill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y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b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1" descr="unionbutt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45720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allworke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724280"/>
            <a:ext cx="1611360" cy="1676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ilgwu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209680"/>
            <a:ext cx="1905120" cy="162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9"/>
          <p:cNvSpPr txBox="1"/>
          <p:nvPr/>
        </p:nvSpPr>
        <p:spPr>
          <a:xfrm>
            <a:off x="457200" y="533520"/>
            <a:ext cx="459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forming City Lif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591200" y="1332000"/>
            <a:ext cx="683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50% of pop. Living in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ing, sanitation, police &amp; fire protection, education, re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wrence Ve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Y Tenement House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urn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ty planning (Chic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1"/>
          <p:cNvSpPr txBox="1"/>
          <p:nvPr/>
        </p:nvSpPr>
        <p:spPr>
          <a:xfrm>
            <a:off x="533520" y="3352680"/>
            <a:ext cx="3343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ral Refor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1815480" y="4227480"/>
            <a:ext cx="66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hibition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ned the manufacture, sale &amp; transport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ic bever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a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Christian Temperance Union (WC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abe-prohibition-po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419720"/>
            <a:ext cx="1295280" cy="1676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slide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2209680"/>
            <a:ext cx="2286000" cy="170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380880" y="457200"/>
            <a:ext cx="53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acial Discrimin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591560" y="1332000"/>
            <a:ext cx="67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progressives do not want to include min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inorities do succeed, but major change is decades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990720" y="2133720"/>
            <a:ext cx="2962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.E.B. Du Boi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533520" y="3124080"/>
            <a:ext cx="1771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AAC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369160" y="3276720"/>
            <a:ext cx="645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ational Association for the Advancement of Colored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533520" y="4114800"/>
            <a:ext cx="5734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ational Urban Leagu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228600" y="5029200"/>
            <a:ext cx="7029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ciety of American Indian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363040" y="594360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Americ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thorpe"/>
          <p:cNvPicPr/>
          <p:nvPr/>
        </p:nvPicPr>
        <p:blipFill>
          <a:blip r:embed="rId1"/>
          <a:stretch/>
        </p:blipFill>
        <p:spPr>
          <a:xfrm>
            <a:off x="7620120" y="4800600"/>
            <a:ext cx="1211040" cy="16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6:56:15Z</dcterms:created>
  <dc:creator>Nate and Babies</dc:creator>
  <dc:description/>
  <dc:language>en-US</dc:language>
  <cp:lastModifiedBy>PA Department of Education Classrooms for the Future</cp:lastModifiedBy>
  <dcterms:modified xsi:type="dcterms:W3CDTF">2012-03-14T01:57:59Z</dcterms:modified>
  <cp:revision>16</cp:revision>
  <dc:subject/>
  <dc:title>Slide 1</dc:title>
</cp:coreProperties>
</file>